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C7E-950D-4F03-964E-17B6FB26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022-6722-4230-A81B-FBEC43DA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8FE-3EA5-4D11-AB03-5C144DCF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3D1-2CD7-40CC-823D-DC26AD75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7AA4-97B1-44B0-882C-3FB205CD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CC93-A536-48AE-BA8B-85AFA18A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92BE-B2A7-442A-8447-041A1E73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7497-B8F7-4126-AE02-232B41BD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D8EF-4151-451F-AB5A-8D5857FF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6F8C-0506-49A0-9850-234E3831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3DA0-E672-4897-96E5-B540339C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697-43F4-4B09-B3DF-A9C77220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F985-EF80-45CF-83AF-A6687F9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7E4E-AE3E-4DCD-B125-6B0FB8B0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2E7B-6893-4AEC-ABBE-CBF3373D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829E-626B-48C1-80FE-1B0057C9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1BD9-E50B-4AFB-95E8-F674B35F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138-C9A1-42AC-B765-1C2E6817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5AE-13F2-49FA-B2EE-A923BEFB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B4A-4523-4AD6-A9A6-EBAF2C89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0E1-0E2D-4606-B63D-65971342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803-F569-41B3-88D1-3F55D274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884-3C38-4436-8333-87397102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396-B2EB-4F16-AABD-C42299DD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6A0F-DA02-4BBE-995D-66B6C0599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E2AB-E8AA-4A26-A260-E73750C08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br>
              <a:rPr sz="80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y: Cheyenne M., Jordan G., Tyler W.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14760" y="16002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in B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1676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16765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6120" y="1468440"/>
            <a:ext cx="77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8920" y="325116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s it “Klu Klux Klan” or “Ku Klux Klan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0720" y="3168720"/>
            <a:ext cx="28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u Klux Kla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5200" y="2971800"/>
            <a:ext cx="797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s a government group council or couns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Counci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2880" y="3168720"/>
            <a:ext cx="49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What does dessert mean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2880" y="3168720"/>
            <a:ext cx="42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Final course of a m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1396200">
            <a:off x="614520" y="320004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To feel happy, is it feel good or feel w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850800">
            <a:off x="1888920" y="2971800"/>
            <a:ext cx="32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eel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2438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ee examples that should be capitalized only when used as part of or in place of  proper no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14600" y="25146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High Sch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Seni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Ri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6720" y="3048120"/>
            <a:ext cx="87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hat are three requirements for standard envelop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2880" y="3168720"/>
            <a:ext cx="477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the preposition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tw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to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080" y="3168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20040" y="2971800"/>
            <a:ext cx="53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d18"/>
                </a:solidFill>
                <a:latin typeface="Times New Roman"/>
              </a:rPr>
              <a:t>How do you spell the word that h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d18"/>
                </a:solidFill>
                <a:latin typeface="Times New Roman"/>
              </a:rPr>
              <a:t>the meaning of the build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0720" y="302256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pito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2160" y="316872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remember how to sp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gratulati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6960" y="3124080"/>
            <a:ext cx="69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s to think of the expression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y people and greeting cards 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94480" y="2971800"/>
            <a:ext cx="85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man is spelled fiancé, how is a woman’s spell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800" y="31687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ancé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124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word that is a noun and means writing materials, and how do you spell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800" y="316872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tion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82080" y="3317760"/>
            <a:ext cx="611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Dark Blue or Black in so scanners will 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All capital letters, block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itle of respect for addressee but not for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No 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Business name on second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95760" y="3200400"/>
            <a:ext cx="73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false impression or decep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pearance, and how is it spe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89280" y="3121200"/>
            <a:ext cx="170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lu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46960" y="228600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baby-sitter, or baby si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800" y="316872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by-si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375200" y="3124080"/>
            <a:ext cx="72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doubl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occurred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curring, occurrences, but you do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it in what wor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c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520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word means to go or come befor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cede or proce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800" y="31687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ce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3960" y="31687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hyphenate a frac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3600" y="316872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t’s an adj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3240" y="3168720"/>
            <a:ext cx="61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Is complement a noun or a verb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83880" y="321948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it definitely or difin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2160" y="316872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it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2880" y="3168720"/>
            <a:ext cx="67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it: Abingdon or Abingt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0720" y="316872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ng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800" y="3168720"/>
            <a:ext cx="43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would you say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ud or out lou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0720" y="31687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u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34360" y="3276720"/>
            <a:ext cx="81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refers to distance: further or farth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r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2880" y="3168720"/>
            <a:ext cx="67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do you say, try to or try 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y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0360" y="3168720"/>
            <a:ext cx="12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No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2160" y="3168720"/>
            <a:ext cx="67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praise something do you say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liment or comple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2520" y="316872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li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4240" y="321948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hat does “precede” mea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2520" y="3168720"/>
            <a:ext cx="47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To go or to come befo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9800" y="3200400"/>
            <a:ext cx="47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“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To receive willingly”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at except or accep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Accep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31</cp:lastModifiedBy>
  <dcterms:modified xsi:type="dcterms:W3CDTF">2010-05-19T15:06:41Z</dcterms:modified>
  <cp:revision>19</cp:revision>
  <dc:subject/>
  <dc:title>Jeopardy</dc:title>
</cp:coreProperties>
</file>